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977-AAE9-4407-8B62-2504D4C0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A25-9ACE-447B-9DEC-D374B69C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539-11B4-44FF-8842-B49ABFE3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FCF-2269-4BDA-A329-6A238DE3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3C67-DE14-4B29-B510-B2008F1C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1A3-4A65-431B-97BF-CCF2EA4A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7BB-84E9-4250-A230-601E2E0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5718-9B2E-470B-91B6-E51CB81A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04FC-16B5-4F85-8E30-6903262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8B9D-F520-4C40-86B0-85E9A790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2B9-779C-40C6-9D9B-85B5B25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7A5-468A-437C-8DEB-BFC7BDBC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49F4-0122-4F8D-A262-E1854156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92EB-44A7-4C13-84F2-AB1E0569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4C33-E599-4351-9673-4B4B05E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7662-E359-4038-8617-DB70E04F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75B7-E0BE-447E-AE33-41B2AFA4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417-62E8-4AC7-ACB1-DCC06EF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186-50B4-41E3-8D58-5A451BE5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456-0AF6-406E-9811-6B1B282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913-82F9-47FA-BA2E-7A1E9B1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A04-F40D-4EB8-9D38-E2B7587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5D3-46DB-4858-9259-454C56B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361-F9A5-469C-A488-A862EEE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9D37-BC98-4328-A82A-537517F89CAD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F25-1DE7-4190-AEC5-0BE9DE3D7BD8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07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ROZSZERZ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80920" y="998640"/>
            <a:ext cx="3286440" cy="557280"/>
            <a:chOff x="880920" y="998640"/>
            <a:chExt cx="3286440" cy="557280"/>
          </a:xfrm>
        </p:grpSpPr>
        <p:sp>
          <p:nvSpPr>
            <p:cNvPr id="99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880920" y="108828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Rozszerzamy ułame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3672000" y="998640"/>
                  <a:ext cx="2156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2367000" y="1574640"/>
          <a:ext cx="486072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574640"/>
                    <a:ext cx="486072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16680" y="356364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em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cznik i mianowni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86280" y="3429000"/>
                <a:ext cx="21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357720" y="3563640"/>
            <a:ext cx="59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nożyliśmy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stępnie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tem znowu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zez 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6640" y="4141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O ile rozszerzono ułame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6280" y="4643280"/>
          <a:ext cx="6705720" cy="17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6280" y="4643280"/>
                    <a:ext cx="67057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14" name=""/>
            <p:cNvSpPr/>
            <p:nvPr/>
          </p:nvSpPr>
          <p:spPr>
            <a:xfrm>
              <a:off x="1464120" y="1897560"/>
              <a:ext cx="6324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zszerzając ułamek należ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icznik i mianownik ułamk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omnożyć przez tą samą liczbę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różną od 0 i 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6:14Z</dcterms:modified>
  <cp:revision>42</cp:revision>
  <dc:subject/>
  <dc:title>Slajd 1</dc:title>
</cp:coreProperties>
</file>